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9B1-CD76-4BDA-864D-AB9FA147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4C7-A447-4DD6-999A-26B98E6F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864-D0B4-479B-A4C6-A1963923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2BC-C9D7-4F79-BA2B-D3D49E3C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909B-66FA-4656-9DBC-5F0AFD41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7908-9439-40D5-A210-D750D705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C84D-04A9-4680-9DC3-284B7820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7A00-4B04-4638-838C-1A9212F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A30A-2449-4F5B-B5D8-0FD61176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FE36-C048-46B0-94A2-A2E7EF0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7323-B5EB-46B5-9872-8502212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DB4-245F-4E3C-A902-FB659359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E12-96D1-4E06-8632-005B489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9246-82C7-4ABF-8D0B-7A578EED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C18F-00EE-4B23-B26E-E33A7AC3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E586-96D7-4497-BDCD-E6C299D5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EAAC-88B8-428B-9A87-DE1F487A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211-5332-472E-9E4F-C36B23D8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5F0-72C4-45AB-9368-FCB14E80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0C1-A5B9-4F26-858C-FAF946CF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8B9-FD7E-4A42-BF95-A75E3FB6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0EF-D345-4C69-96C5-C833696E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211-5082-4B77-86A9-75B127D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46C-22B8-44BF-AF88-DE9EDFEB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7B8E-CECB-49EB-B57B-A461490CC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B9C9-C753-4418-AF2C-0467CB24E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Comic Sans MS"/>
              </a:rPr>
              <a:t>Les t</a:t>
            </a:r>
            <a:r>
              <a:rPr b="1" lang="en-US" sz="7200" spc="-1" strike="noStrike">
                <a:solidFill>
                  <a:srgbClr val="0066ff"/>
                </a:solidFill>
                <a:latin typeface="Comic Sans MS"/>
                <a:ea typeface="Arial"/>
              </a:rPr>
              <a:t>é</a:t>
            </a:r>
            <a:r>
              <a:rPr b="1" lang="en-US" sz="7200" spc="-1" strike="noStrike">
                <a:solidFill>
                  <a:srgbClr val="0066ff"/>
                </a:solidFill>
                <a:latin typeface="Comic Sans MS"/>
              </a:rPr>
              <a:t>l</a:t>
            </a:r>
            <a:r>
              <a:rPr b="1" lang="en-US" sz="7200" spc="-1" strike="noStrike">
                <a:solidFill>
                  <a:srgbClr val="0066ff"/>
                </a:solidFill>
                <a:latin typeface="Comic Sans MS"/>
                <a:ea typeface="Arial"/>
              </a:rPr>
              <a:t>é</a:t>
            </a:r>
            <a:r>
              <a:rPr b="1" lang="en-US" sz="7200" spc="-1" strike="noStrike">
                <a:solidFill>
                  <a:srgbClr val="0066ff"/>
                </a:solidFill>
                <a:latin typeface="Comic Sans MS"/>
              </a:rPr>
              <a:t>visions en France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038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rogrammes du can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57800" y="18284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une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486240" cy="4648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2133720" cy="879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081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886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s info 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 journal de 13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 journal de 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 Journal du week-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 blog poli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1938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3504960" cy="1898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14800" y="2209680"/>
            <a:ext cx="335268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257800" y="4495680"/>
            <a:ext cx="3581280" cy="2014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429000" y="380880"/>
            <a:ext cx="1981080" cy="81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2096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081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277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Vous offre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2 séries T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2 émissions TV t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s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agazines d'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programmes jeunesse rig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213336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urlz MT"/>
                <a:ea typeface="Arial"/>
              </a:rPr>
              <a:t>É</a:t>
            </a:r>
            <a:r>
              <a:rPr b="0" lang="en-US" sz="4400" spc="-1" strike="noStrike">
                <a:solidFill>
                  <a:srgbClr val="ff0000"/>
                </a:solidFill>
                <a:latin typeface="Curlz MT"/>
              </a:rPr>
              <a:t>missions TV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124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Koh-La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Petits Plats en Equilib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50 mn in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Sept à hu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Football - Equipe de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Autom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Téléfo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Report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10H Le M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C'est quoi l'amour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Attention à la marche 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Au coeur du cr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Election de Miss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Les enfants de la tél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Téléshopp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Appels d'urg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Le juste p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Petites st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Sans aucun do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81080" cy="817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2743200" cy="1543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48120" y="3657600"/>
            <a:ext cx="2590560" cy="1457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943600" y="3048120"/>
            <a:ext cx="274320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867280" y="4952880"/>
            <a:ext cx="2819520" cy="1586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971800" y="1600200"/>
            <a:ext cx="26668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a une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urlz MT"/>
              </a:rPr>
              <a:t>Petites star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Un concours de talents pas comme les autres, où vous allez être épatés 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Tout au long de la soirée, vous découvrirez 8 enfants hors du commun. Agés de 7 à 12 ans, ils ont tous le chant et la musique dans le sa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40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2133360" cy="87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114800" y="36576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477120" y="3733920"/>
            <a:ext cx="2333520" cy="286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304920" y="4419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400" y="456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st un cha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îne tr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è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s int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é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ressante qui a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eaucoup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 d’informations pour tout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es âges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.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1525680" cy="628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36565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Comic Sans MS"/>
              </a:rPr>
              <a:t>P</a:t>
            </a:r>
            <a:r>
              <a:rPr b="0" lang="ro-RO" sz="3200" spc="-1" strike="noStrike">
                <a:solidFill>
                  <a:srgbClr val="feec94"/>
                </a:solidFill>
                <a:latin typeface="Comic Sans MS"/>
              </a:rPr>
              <a:t>our développer votre vocabulaire</a:t>
            </a:r>
            <a:r>
              <a:rPr b="0" lang="en-US" sz="3200" spc="-1" strike="noStrike">
                <a:solidFill>
                  <a:srgbClr val="feec94"/>
                </a:solidFill>
                <a:latin typeface="Comic Sans MS"/>
              </a:rPr>
              <a:t> vous dev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Comic Sans MS"/>
              </a:rPr>
              <a:t>rega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715000" y="4952880"/>
            <a:ext cx="32004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oana</cp:lastModifiedBy>
  <dcterms:modified xsi:type="dcterms:W3CDTF">2009-10-22T15:28:2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